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6C0-3C8D-4468-9608-BEA2325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B91-2FB8-49E5-BE40-A0704EB6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48B-B591-4BDA-83C5-FEA4F781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69B-B92E-4C9E-9317-C2DEE1A8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770-591A-45C9-B34B-0579264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56A-7EA7-4B42-9BBF-426FDEFE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C49-697C-47C0-9E5A-00B3BF0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353-3D29-43F3-8988-36C09D1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87F-820F-45B6-8F0E-4701B28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902-B400-4378-88C2-2597361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AF3-4141-4341-A828-F8DF12C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EB1-14E6-4B4B-8A11-0C3D759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CFD-1C06-475E-9768-D2AF3CD8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io_ch9_4759"/>
          <p:cNvPicPr/>
          <p:nvPr/>
        </p:nvPicPr>
        <p:blipFill>
          <a:blip r:embed="rId1"/>
          <a:stretch/>
        </p:blipFill>
        <p:spPr>
          <a:xfrm>
            <a:off x="2286000" y="838080"/>
            <a:ext cx="6200640" cy="41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www.mitochondria.us/pages/mitoman.jpg"/>
          <p:cNvPicPr/>
          <p:nvPr/>
        </p:nvPicPr>
        <p:blipFill>
          <a:blip r:embed="rId2"/>
          <a:stretch/>
        </p:blipFill>
        <p:spPr>
          <a:xfrm>
            <a:off x="380880" y="1219320"/>
            <a:ext cx="171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8380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43040" y="380520"/>
            <a:ext cx="4343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turns of cy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Brace 5"/>
          <p:cNvSpPr/>
          <p:nvPr/>
        </p:nvSpPr>
        <p:spPr>
          <a:xfrm>
            <a:off x="6629400" y="35053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Chapter 09C.mpg" descr=""/>
          <p:cNvPicPr/>
          <p:nvPr/>
        </p:nvPicPr>
        <p:blipFill>
          <a:blip r:embed="rId5"/>
          <a:stretch/>
        </p:blipFill>
        <p:spPr>
          <a:xfrm>
            <a:off x="582480" y="457200"/>
            <a:ext cx="7723440" cy="579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86" name="Chapter 09D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99400" cy="58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bio_ch9_4761"/>
          <p:cNvPicPr/>
          <p:nvPr/>
        </p:nvPicPr>
        <p:blipFill>
          <a:blip r:embed="rId1"/>
          <a:stretch/>
        </p:blipFill>
        <p:spPr>
          <a:xfrm>
            <a:off x="1386000" y="1792440"/>
            <a:ext cx="6406920" cy="4424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31840"/>
            <a:ext cx="8562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33400" y="175896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444840" y="2017800"/>
            <a:ext cx="21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819680" y="56674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147080" y="3397320"/>
            <a:ext cx="168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803920" y="21956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80880" y="4419720"/>
            <a:ext cx="157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4920" y="556272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80880" y="2666880"/>
            <a:ext cx="1752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"/>
          <p:cNvPicPr/>
          <p:nvPr/>
        </p:nvPicPr>
        <p:blipFill>
          <a:blip r:embed="rId2"/>
          <a:stretch/>
        </p:blipFill>
        <p:spPr>
          <a:xfrm>
            <a:off x="7304040" y="1314360"/>
            <a:ext cx="16448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7121520" y="2206800"/>
            <a:ext cx="26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itochondria"/>
          <p:cNvPicPr/>
          <p:nvPr/>
        </p:nvPicPr>
        <p:blipFill>
          <a:blip r:embed="rId1"/>
          <a:stretch/>
        </p:blipFill>
        <p:spPr>
          <a:xfrm>
            <a:off x="152280" y="5486400"/>
            <a:ext cx="1752840" cy="124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energy electrons from the Krebs cycle (carried by NADH and FADH2) are used to convert ADP t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-energy electrons are passed along a series of proteins embedded in the inner membrane of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have organelles, so this process occurs directly in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DH and FADH2 from Krebs cycle (in matrix) transfer high energy e- to proteins of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 are passed from one protein to the next in the chain.  For each pair of e-, H+ ions are pumped out of matrix, across membrane, into intermembran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e- get to the end, an enzyme joins them with H+ ions and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y it’s aerob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the chain to work, there must be a molecule at the end to accept th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this final electron acceptor.  The electrons combine with free hydrogens to form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bio_ch9_4761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H+ that were pumped into intermembrane space begin building up, creating a positi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wise, the matrix is negativ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high concentration of positive charge wants to even out.  The H+ ions will diffuse back across the inner membrane, through ATP synthet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s H+ move through the ATP synthetase protein, it spins, combining ADP and P to for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392\other392\Biology 392\Unit 5 - Chapter 8, 9, 23\electron transport chain.jpg"/>
          <p:cNvPicPr/>
          <p:nvPr/>
        </p:nvPicPr>
        <p:blipFill>
          <a:blip r:embed="rId1"/>
          <a:stretch/>
        </p:blipFill>
        <p:spPr>
          <a:xfrm>
            <a:off x="990720" y="627120"/>
            <a:ext cx="76197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18" name="Chapter 09E.mpg" descr=""/>
          <p:cNvPicPr/>
          <p:nvPr/>
        </p:nvPicPr>
        <p:blipFill>
          <a:blip r:embed="rId4"/>
          <a:stretch/>
        </p:blipFill>
        <p:spPr>
          <a:xfrm>
            <a:off x="480960" y="380880"/>
            <a:ext cx="812952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final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energy from the original glucose is still present in the 2 pyruv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: Glycolysis, Krebs cycl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Chapter 09F.mpg" descr=""/>
          <p:cNvPicPr/>
          <p:nvPr/>
        </p:nvPicPr>
        <p:blipFill>
          <a:blip r:embed="rId4"/>
          <a:stretch/>
        </p:blipFill>
        <p:spPr>
          <a:xfrm>
            <a:off x="609480" y="762120"/>
            <a:ext cx="810288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: each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air of e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ETC provides enough energy to conv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3 ADP to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NADH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FADH2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s will depend on whether you’re talking about 1 turn of the Krebs cycle or 2 turns: 1 pyruvic acid or 2 pyruvic acid (1 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respiration includes 3 steps: glycolysis, Kreb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Glucose molec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from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 ATP from Krebs/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X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ATP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8% of total original energy in a glucose molecule.  62% is lost as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get warmer 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ing S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of ATP already in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a few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~90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ds up lactic acid &amp; oxygen deb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ular respiration (Krebs &amp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ng-ter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w release as glycogen stores are broken down (15-20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ter 20 min, body starts breaking down other stores (like f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orms use aerobic? anaerob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athon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4340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, slow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stores,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y pa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do both proce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chloroplasts &amp;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hloroplast"/>
          <p:cNvPicPr/>
          <p:nvPr/>
        </p:nvPicPr>
        <p:blipFill>
          <a:blip r:embed="rId1"/>
          <a:stretch/>
        </p:blipFill>
        <p:spPr>
          <a:xfrm>
            <a:off x="4952880" y="411480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itochondria"/>
          <p:cNvPicPr/>
          <p:nvPr/>
        </p:nvPicPr>
        <p:blipFill>
          <a:blip r:embed="rId2"/>
          <a:stretch/>
        </p:blipFill>
        <p:spPr>
          <a:xfrm>
            <a:off x="914400" y="41148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vs. Energ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295280"/>
          <a:ext cx="8153280" cy="5257800"/>
        </p:xfrm>
        <a:graphic>
          <a:graphicData uri="http://schemas.openxmlformats.org/drawingml/2006/table">
            <a:tbl>
              <a:tblPr/>
              <a:tblGrid>
                <a:gridCol w="1207800"/>
                <a:gridCol w="3699000"/>
                <a:gridCol w="32464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+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agram 1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382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 rot="19149000">
            <a:off x="2062800" y="1295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 rot="2389800">
            <a:off x="1895040" y="4487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5"/>
          <p:cNvSpPr/>
          <p:nvPr/>
        </p:nvSpPr>
        <p:spPr>
          <a:xfrm rot="2814000">
            <a:off x="2541960" y="1915560"/>
            <a:ext cx="738000" cy="33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6"/>
          <p:cNvSpPr/>
          <p:nvPr/>
        </p:nvSpPr>
        <p:spPr>
          <a:xfrm rot="18575400">
            <a:off x="2517840" y="3951000"/>
            <a:ext cx="739800" cy="330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5800" y="609480"/>
          <a:ext cx="7924680" cy="481032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762120"/>
          <a:ext cx="7924680" cy="448920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49" name="TextBox 4"/>
          <p:cNvSpPr/>
          <p:nvPr/>
        </p:nvSpPr>
        <p:spPr>
          <a:xfrm>
            <a:off x="1846080" y="57913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number (Gross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mitochondria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folded inner membrane = cri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space inside =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rebs cycle occu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TC proteins are in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are pumped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rix into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then diffuse 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into matrix through ATP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ate (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(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20px-Pyruvic-acid-2D-skeletal"/>
          <p:cNvPicPr/>
          <p:nvPr/>
        </p:nvPicPr>
        <p:blipFill>
          <a:blip r:embed="rId1"/>
          <a:stretch/>
        </p:blipFill>
        <p:spPr>
          <a:xfrm>
            <a:off x="1523880" y="2590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keletal formula of lactic acid"/>
          <p:cNvPicPr/>
          <p:nvPr/>
        </p:nvPicPr>
        <p:blipFill>
          <a:blip r:embed="rId2"/>
          <a:stretch/>
        </p:blipFill>
        <p:spPr>
          <a:xfrm>
            <a:off x="5791320" y="22096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krebs"/>
          <p:cNvPicPr/>
          <p:nvPr/>
        </p:nvPicPr>
        <p:blipFill>
          <a:blip r:embed="rId1"/>
          <a:stretch/>
        </p:blipFill>
        <p:spPr>
          <a:xfrm>
            <a:off x="155520" y="46080"/>
            <a:ext cx="86076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hty-Tighty 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btain two sheets of paper and a metric ruler. What is the surface area of the pap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ne sheet of paper into a tube lengthwise. What is the surface area of the rolled pa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the second sheet of paper into a fan. Then, roll the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 of paper around the folded paper so it is inside the rolled pap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happened to the surface area of the inside of the rolled pa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value of increasing the surface area of the membrane inside a 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730080"/>
            <a:ext cx="78991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is broken down into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ries of energy-extracting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:\392\other392\Biology 392\Unit 5 - Chapter 8, 9, 23\krebs cycle.jpg"/>
          <p:cNvPicPr/>
          <p:nvPr/>
        </p:nvPicPr>
        <p:blipFill>
          <a:blip r:embed="rId1"/>
          <a:stretch/>
        </p:blipFill>
        <p:spPr>
          <a:xfrm>
            <a:off x="380880" y="1447920"/>
            <a:ext cx="8274240" cy="5410080"/>
          </a:xfrm>
          <a:prstGeom prst="rect">
            <a:avLst/>
          </a:prstGeom>
          <a:ln w="0">
            <a:noFill/>
          </a:ln>
        </p:spPr>
      </p:pic>
      <p:sp>
        <p:nvSpPr>
          <p:cNvPr id="53" name="Title 1"/>
          <p:cNvSpPr/>
          <p:nvPr/>
        </p:nvSpPr>
        <p:spPr>
          <a:xfrm rot="1777200">
            <a:off x="5784840" y="1984320"/>
            <a:ext cx="3338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Pyruvic acid (3C from glycolysis) en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on – across 2 membra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3C (pyruvic acid) splits: 1 C bec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released.  The rema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 combine with coenzyme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cetyl group (2C) combines with 4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 (already in mitochondrion)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itric acid (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Coenzyme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after 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glycolysis and the cycl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krebs"/>
          <p:cNvPicPr/>
          <p:nvPr/>
        </p:nvPicPr>
        <p:blipFill>
          <a:blip r:embed="rId1"/>
          <a:stretch/>
        </p:blipFill>
        <p:spPr>
          <a:xfrm>
            <a:off x="3505320" y="1066680"/>
            <a:ext cx="54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Citric acid (6C) loses 1carbon as 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es a 5-C molecule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5-C loses another carbon a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s a 4-C molecule, NADH and ATP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4-C molecule rearranges again &amp; again, giving off Hydrogens as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contin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4C molecule combines with acetyl CoA to start cy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goes around once per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goes around twice per molecule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MVanElli</cp:lastModifiedBy>
  <dcterms:modified xsi:type="dcterms:W3CDTF">2011-03-08T21:17:25Z</dcterms:modified>
  <cp:revision>124</cp:revision>
  <dc:subject/>
  <dc:title>Cell resp</dc:title>
</cp:coreProperties>
</file>